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7A2-55C8-4CB1-A229-E1BF6B98D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ime is included in this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3FC-22BE-42E8-89DC-4A9BD9AC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4F0-A393-4B10-89B0-9F407771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631-82F9-42FD-A990-39FA4DD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CBF-01E9-4AA0-8BFB-0FA9A648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D48-A34F-490A-A99E-B3BDBFF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9D4-5B51-4B48-B4B5-8D81FC6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06C-C3FA-4D16-BE01-DEF50A00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BE8-02CB-45D4-8B81-1B154E2D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840-AAEB-4B11-9A59-2EED1BA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0A7-E390-4046-9A7D-51C1319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E10-1582-431D-A01C-1A03E37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420-7310-4894-ACC1-CF49EEA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AE57-6177-4BC0-9945-5DA1E2B59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1" i="1" lang="en-US" sz="1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F60-DA6A-40C0-A8FE-95F087AB5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csulb.libguides.com/nursing/pico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guides.library.vcu.edu/rapidreview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62120" y="1752480"/>
            <a:ext cx="764856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“How To” Research Series at RVU</a:t>
            </a: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inding an Idea</a:t>
            </a: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ctober, 2020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manda Brooks, PhD</a:t>
            </a: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rector of Research and Scholarly Activity</a:t>
            </a:r>
            <a:endParaRPr b="1" i="1" lang="en-US" sz="18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sociate Professor of Molecular Biology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1" i="1" lang="en-US" sz="20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4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the end of this video, you shoul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the tools to come up with a research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a research qu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e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fined a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ystematic investi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a topic or material in order to establish facts and reach a conclu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larly activ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fined as creative works that are peer reviewed and publically dissemin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Diagram 1" descr=""/>
          <p:cNvPicPr/>
          <p:nvPr/>
        </p:nvPicPr>
        <p:blipFill>
          <a:blip r:embed="rId1"/>
          <a:stretch/>
        </p:blipFill>
        <p:spPr>
          <a:xfrm>
            <a:off x="762120" y="1427040"/>
            <a:ext cx="7540560" cy="4729320"/>
          </a:xfrm>
          <a:prstGeom prst="rect">
            <a:avLst/>
          </a:prstGeom>
          <a:ln w="0">
            <a:noFill/>
          </a:ln>
        </p:spPr>
      </p:pic>
      <p:pic>
        <p:nvPicPr>
          <p:cNvPr id="55" name="Audio 2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br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manage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gap you are trying to f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you uniquely qualified to fill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/r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96840" y="1347840"/>
            <a:ext cx="8248680" cy="4576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 rot="5400000">
            <a:off x="6400080" y="31510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Find your passion</a:t>
            </a:r>
            <a:endParaRPr b="1" i="1" lang="en-US" sz="36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62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/refine your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103320" y="1139760"/>
            <a:ext cx="8242200" cy="5157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 rot="5400000">
            <a:off x="6400080" y="31510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Find your passion</a:t>
            </a:r>
            <a:endParaRPr b="1" i="1" lang="en-US" sz="36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66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s://s3.amazonaws.com/libapps/accounts/76978/images/PICO_Formula.png"/>
          <p:cNvPicPr/>
          <p:nvPr/>
        </p:nvPicPr>
        <p:blipFill>
          <a:blip r:embed="rId1"/>
          <a:srcRect l="1354" t="5324" r="2701" b="7749"/>
          <a:stretch/>
        </p:blipFill>
        <p:spPr>
          <a:xfrm>
            <a:off x="990720" y="1143000"/>
            <a:ext cx="7162560" cy="4627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3480" y="59342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csulb.libguides.com/nursing/pico</a:t>
            </a:r>
            <a:endParaRPr b="1" i="1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70" name="Audio 1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Steps: Rapid Review - Rapid Review Protocol - Research Guides at Virginia  Commonwealth University"/>
          <p:cNvPicPr/>
          <p:nvPr/>
        </p:nvPicPr>
        <p:blipFill>
          <a:blip r:embed="rId1"/>
          <a:stretch/>
        </p:blipFill>
        <p:spPr>
          <a:xfrm>
            <a:off x="750960" y="1600200"/>
            <a:ext cx="7642080" cy="4046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28600" y="5851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guides.library.vcu.edu/rapidreview</a:t>
            </a:r>
            <a:endParaRPr b="1" i="1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pic>
        <p:nvPicPr>
          <p:cNvPr id="74" name="Audio 1" descr=""/>
          <p:cNvPicPr/>
          <p:nvPr/>
        </p:nvPicPr>
        <p:blipFill>
          <a:blip r:embed="rId3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23:52:26Z</dcterms:created>
  <dc:creator>Bill Brown</dc:creator>
  <dc:description>Draft from 2/e</dc:description>
  <dc:language>en-US</dc:language>
  <cp:lastModifiedBy>Amanda Brooks</cp:lastModifiedBy>
  <cp:lastPrinted>2017-06-06T17:05:35Z</cp:lastPrinted>
  <dcterms:modified xsi:type="dcterms:W3CDTF">2020-10-21T19:04:37Z</dcterms:modified>
  <cp:revision>525</cp:revision>
  <dc:subject>Biochemistry by Mary Campbell</dc:subject>
  <dc:title>Camp 1</dc:title>
</cp:coreProperties>
</file>